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2.png" ContentType="image/png"/>
  <Override PartName="/ppt/media/image20.png" ContentType="image/png"/>
  <Override PartName="/ppt/media/image36.jpeg" ContentType="image/jpeg"/>
  <Override PartName="/ppt/media/image18.gif" ContentType="image/gif"/>
  <Override PartName="/ppt/media/image53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55.wmf" ContentType="image/x-wmf"/>
  <Override PartName="/ppt/media/image13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26.png" ContentType="image/png"/>
  <Override PartName="/ppt/media/image23.gif" ContentType="image/gif"/>
  <Override PartName="/ppt/media/image3.png" ContentType="image/png"/>
  <Override PartName="/ppt/media/image33.png" ContentType="image/png"/>
  <Override PartName="/ppt/media/image4.png" ContentType="image/png"/>
  <Override PartName="/ppt/media/image28.png" ContentType="image/png"/>
  <Override PartName="/ppt/media/image35.gif" ContentType="image/gif"/>
  <Override PartName="/ppt/media/image25.gif" ContentType="image/gif"/>
  <Override PartName="/ppt/media/image5.png" ContentType="image/png"/>
  <Override PartName="/ppt/media/image43.jpeg" ContentType="image/jpeg"/>
  <Override PartName="/ppt/media/image37.png" ContentType="image/png"/>
  <Override PartName="/ppt/media/image41.png" ContentType="image/png"/>
  <Override PartName="/ppt/media/image46.png" ContentType="image/png"/>
  <Override PartName="/ppt/media/image48.png" ContentType="image/png"/>
  <Override PartName="/ppt/media/image40.png" ContentType="image/png"/>
  <Override PartName="/ppt/media/image49.gif" ContentType="image/gif"/>
  <Override PartName="/ppt/media/image51.gif" ContentType="image/gif"/>
  <Override PartName="/ppt/media/image54.png" ContentType="image/png"/>
  <Override PartName="/ppt/media/image42.png" ContentType="image/png"/>
  <Override PartName="/ppt/media/image50.gif" ContentType="image/gif"/>
  <Override PartName="/ppt/media/image45.png" ContentType="image/png"/>
  <Override PartName="/ppt/media/image52.gif" ContentType="image/gif"/>
  <Override PartName="/ppt/media/image56.png" ContentType="image/png"/>
  <Override PartName="/ppt/media/image34.gif" ContentType="image/gif"/>
  <Override PartName="/ppt/media/drumroll.wav" ContentType="audio/x-wav"/>
  <Override PartName="/ppt/media/image32.gif" ContentType="image/gif"/>
  <Override PartName="/ppt/media/image7.gif" ContentType="image/gif"/>
  <Override PartName="/ppt/media/image30.gif" ContentType="image/gif"/>
  <Override PartName="/ppt/media/image12.png" ContentType="image/png"/>
  <Override PartName="/ppt/media/image10.png" ContentType="image/png"/>
  <Override PartName="/ppt/media/image47.png" ContentType="image/png"/>
  <Override PartName="/ppt/media/image44.wmf" ContentType="image/x-wmf"/>
  <Override PartName="/ppt/media/image11.gif" ContentType="image/gif"/>
  <Override PartName="/ppt/media/image9.png" ContentType="image/png"/>
  <Override PartName="/ppt/media/chimes.wav" ContentType="audio/x-wav"/>
  <Override PartName="/ppt/media/image29.png" ContentType="image/png"/>
  <Override PartName="/ppt/media/image6.png" ContentType="image/png"/>
  <Override PartName="/ppt/media/image38.png" ContentType="image/png"/>
  <Override PartName="/ppt/media/image8.png" ContentType="image/png"/>
  <Override PartName="/ppt/media/image3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BD9F-F872-4DD2-AC74-EDDE42C70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5111-7876-473C-836A-A591734FF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604-692E-49B2-9732-419001B2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C3A-20C2-4BA4-93BA-4897C6D0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1DD-974B-456E-827E-E50A68BC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5CD-2B00-4B64-AC17-5D15F8CB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D76-A959-4723-8C43-9CDD46F4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BB2-7FCB-406D-9965-0F9D09D0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CA8-7770-438B-843B-015BEDAD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623-5534-427E-8379-6AAF4B3E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29F-0955-4F35-969E-8178E487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A97-39E1-4983-BDE4-EE886A84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9E5-CEDB-4281-A8E4-70F81A8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C8B-8585-4A38-AB7D-22397D9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3A0D-806D-4727-A250-03B9CD3B72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0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2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3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3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6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5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laycast.ru/view/1901613/18a031474e3f3ed54f0be59c3e33b978d0ee23a5pl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4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0.png"/><Relationship Id="rId3" Type="http://schemas.openxmlformats.org/officeDocument/2006/relationships/image" Target="../media/image48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4.png"/><Relationship Id="rId5" Type="http://schemas.openxmlformats.org/officeDocument/2006/relationships/image" Target="../media/image53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hyperlink" Target="http://img-fotki.yandex.ru/get/4135/69809074.0/0_ad0bc_f344a57b_S.jpg" TargetMode="External"/><Relationship Id="rId3" Type="http://schemas.openxmlformats.org/officeDocument/2006/relationships/hyperlink" Target="http://img-fotki.yandex.ru/get/4125/69809074.0/0_ad0bd_12818e99_M.jpg" TargetMode="External"/><Relationship Id="rId4" Type="http://schemas.openxmlformats.org/officeDocument/2006/relationships/hyperlink" Target="http://img-fotki.yandex.ru/get/6445/69809074.0/0_ad0be_10a800ad_L.jpg" TargetMode="External"/><Relationship Id="rId5" Type="http://schemas.openxmlformats.org/officeDocument/2006/relationships/hyperlink" Target="http://img-fotki.yandex.ru/get/5632/69809074.0/0_ad0bf_32a6a6f3_M.jpg" TargetMode="External"/><Relationship Id="rId6" Type="http://schemas.openxmlformats.org/officeDocument/2006/relationships/hyperlink" Target="http://img-fotki.yandex.ru/get/4130/69809074.0/0_ad0c0_6989a0b_S.jpg" TargetMode="External"/><Relationship Id="rId7" Type="http://schemas.openxmlformats.org/officeDocument/2006/relationships/hyperlink" Target="http://img-fotki.yandex.ru/get/4138/69809074.0/0_ad0c1_73988af2_M.jpg" TargetMode="External"/><Relationship Id="rId8" Type="http://schemas.openxmlformats.org/officeDocument/2006/relationships/hyperlink" Target="http://img-fotki.yandex.ru/get/6430/69809074.0/0_ad0c2_cef21049_S.jpg" TargetMode="External"/><Relationship Id="rId9" Type="http://schemas.openxmlformats.org/officeDocument/2006/relationships/hyperlink" Target="http://img-fotki.yandex.ru/get/4115/69809074.0/0_ad0c3_f4bd91b1_M.jpg" TargetMode="External"/><Relationship Id="rId10" Type="http://schemas.openxmlformats.org/officeDocument/2006/relationships/hyperlink" Target="http://img-fotki.yandex.ru/get/5637/69809074.0/0_ad0c4_c1a4a374_M.jpg" TargetMode="External"/><Relationship Id="rId11" Type="http://schemas.openxmlformats.org/officeDocument/2006/relationships/hyperlink" Target="http://img-fotki.yandex.ru/get/4135/69809074.0/0_ad0c5_26fa6a11_M.jpg" TargetMode="External"/><Relationship Id="rId12" Type="http://schemas.openxmlformats.org/officeDocument/2006/relationships/hyperlink" Target="http://img-fotki.yandex.ru/get/6431/69809074.0/0_ad0c6_13090510_S.jpg" TargetMode="External"/><Relationship Id="rId13" Type="http://schemas.openxmlformats.org/officeDocument/2006/relationships/hyperlink" Target="http://img-fotki.yandex.ru/get/6434/69809074.0/0_ad0c7_37c68923_M.jpg" TargetMode="External"/><Relationship Id="rId14" Type="http://schemas.openxmlformats.org/officeDocument/2006/relationships/hyperlink" Target="http://img-fotki.yandex.ru/get/5626/69809074.0/0_ad0c8_b1d0dcfc_S.jpg" TargetMode="External"/><Relationship Id="rId15" Type="http://schemas.openxmlformats.org/officeDocument/2006/relationships/hyperlink" Target="http://img-fotki.yandex.ru/get/5630/69809074.0/0_ad0c9_b7c126b7_XS.jpg" TargetMode="External"/><Relationship Id="rId16" Type="http://schemas.openxmlformats.org/officeDocument/2006/relationships/hyperlink" Target="http://img-fotki.yandex.ru/get/5627/69809074.0/0_ad0ca_2a92d7ad_S.jpg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hyperlink" Target="http://smiles.33b.ru/smile.103428.html" TargetMode="External"/><Relationship Id="rId7" Type="http://schemas.openxmlformats.org/officeDocument/2006/relationships/image" Target="../media/image18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3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33520" y="609480"/>
            <a:ext cx="7920000" cy="5639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хема 1" descr=""/>
          <p:cNvPicPr/>
          <p:nvPr/>
        </p:nvPicPr>
        <p:blipFill>
          <a:blip r:embed="rId2"/>
          <a:stretch/>
        </p:blipFill>
        <p:spPr>
          <a:xfrm>
            <a:off x="2590920" y="914400"/>
            <a:ext cx="404172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3" descr=""/>
          <p:cNvPicPr/>
          <p:nvPr/>
        </p:nvPicPr>
        <p:blipFill>
          <a:blip r:embed="rId3"/>
          <a:stretch/>
        </p:blipFill>
        <p:spPr>
          <a:xfrm>
            <a:off x="-12600" y="36360"/>
            <a:ext cx="12445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волшебник"/>
          <p:cNvPicPr/>
          <p:nvPr/>
        </p:nvPicPr>
        <p:blipFill>
          <a:blip r:embed="rId4"/>
          <a:stretch/>
        </p:blipFill>
        <p:spPr>
          <a:xfrm>
            <a:off x="6781680" y="457200"/>
            <a:ext cx="198144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WordArt 11" descr=""/>
          <p:cNvPicPr/>
          <p:nvPr/>
        </p:nvPicPr>
        <p:blipFill>
          <a:blip r:embed="rId5"/>
          <a:stretch/>
        </p:blipFill>
        <p:spPr>
          <a:xfrm>
            <a:off x="1347840" y="2577960"/>
            <a:ext cx="6905520" cy="1165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198520" y="5025960"/>
            <a:ext cx="4610160" cy="1191240"/>
          </a:xfrm>
          <a:prstGeom prst="rect">
            <a:avLst/>
          </a:prstGeom>
          <a:noFill/>
          <a:ln cap="rnd" w="9360">
            <a:solidFill>
              <a:srgbClr val="3333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Ковалева Гал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тель географии и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БОУ  СОШ  №7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708360" y="456552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293840" y="60948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терактивный итоговый 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609480" y="228600"/>
            <a:ext cx="8153640" cy="1371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3520" y="38098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Сент-Чарль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33520" y="28954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ерчис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609480" y="47242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арья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33520" y="5715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. Принца Уэль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38080" y="12096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. Крайняя южная точка материк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" action="ppaction://hlinkshowjump?jump=nextslide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desk_globe_e0"/>
          <p:cNvPicPr/>
          <p:nvPr/>
        </p:nvPicPr>
        <p:blipFill>
          <a:blip r:embed="rId7"/>
          <a:stretch/>
        </p:blipFill>
        <p:spPr>
          <a:xfrm>
            <a:off x="304920" y="1828800"/>
            <a:ext cx="990360" cy="91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ая Америка расположе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….. полушарии (полушариях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4000" y="4419720"/>
            <a:ext cx="53146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Восточ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а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Запа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вер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1STR1"/>
          <p:cNvPicPr/>
          <p:nvPr/>
        </p:nvPicPr>
        <p:blipFill>
          <a:blip r:embed="rId7"/>
          <a:stretch/>
        </p:blipFill>
        <p:spPr>
          <a:xfrm>
            <a:off x="8209080" y="13716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85" dur="indefinite" restart="never" nodeType="tmRoot">
          <p:childTnLst>
            <p:seq>
              <p:cTn id="58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. Российский Колум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33520" y="4419720"/>
            <a:ext cx="510516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ексей Чи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тус Бе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игорий Шелих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жон К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. Долина Смерти располож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иже уровня моря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6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&amp;scy;&amp;mcy;&amp;acy;&amp;jcy;&amp;lcy;&amp;icy;&amp;kcy; &amp;ucy;&amp;chcy;&amp;iecy;&amp;ncy;&amp;icy;&amp;kcy; &amp;acy;&amp;ncy;&amp;icy;&amp;mcy;&amp;acy;&amp;shcy;&amp;kcy;&amp;acy;"/>
          <p:cNvPicPr/>
          <p:nvPr/>
        </p:nvPicPr>
        <p:blipFill>
          <a:blip r:embed="rId6"/>
          <a:stretch/>
        </p:blipFill>
        <p:spPr>
          <a:xfrm>
            <a:off x="3708360" y="5672160"/>
            <a:ext cx="1871640" cy="103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69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8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533520" y="266760"/>
            <a:ext cx="8153280" cy="1866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нт-Лу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ннеапол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овый Орле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с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9480" y="2746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. Один из крупнейших портов мира, заповедник французской речи, французской еды, столица негритянского дж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01111"/>
          <p:cNvPicPr/>
          <p:nvPr/>
        </p:nvPicPr>
        <p:blipFill>
          <a:blip r:embed="rId7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0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24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60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Великая р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Толстая грязн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Гром вод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«Святая ре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6095880" y="3962520"/>
            <a:ext cx="28958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5860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3. Ниагара по – индейски означает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77" dur="indefinite" restart="never" nodeType="tmRoot">
          <p:childTnLst>
            <p:seq>
              <p:cTn id="87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4. Индейский народ, создав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евнюю культу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ю иероглифическую пись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ским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й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цт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2c9d6992d5104c401eb8a30c0ba2f711"/>
          <p:cNvPicPr/>
          <p:nvPr/>
        </p:nvPicPr>
        <p:blipFill>
          <a:blip r:embed="rId7"/>
          <a:stretch/>
        </p:blipFill>
        <p:spPr>
          <a:xfrm>
            <a:off x="5292720" y="558324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950" dur="indefinite" restart="never" nodeType="tmRoot">
          <p:childTnLst>
            <p:seq>
              <p:cTn id="95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52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00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5. Хутор, усадьба 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ьной Амер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аниц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зерв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нч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ре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word2"/>
          <p:cNvPicPr/>
          <p:nvPr/>
        </p:nvPicPr>
        <p:blipFill>
          <a:blip r:embed="rId7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023" dur="indefinite" restart="never" nodeType="tmRoot">
          <p:childTnLst>
            <p:seq>
              <p:cTn id="102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25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06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838080" y="404640"/>
            <a:ext cx="8001000" cy="1687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6. Крупнейший город СШ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воначально называ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й Амстер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5014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ью-Й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ашинг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н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ика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хема 1" descr=""/>
          <p:cNvPicPr/>
          <p:nvPr/>
        </p:nvPicPr>
        <p:blipFill>
          <a:blip r:embed="rId6"/>
          <a:stretch/>
        </p:blipFill>
        <p:spPr>
          <a:xfrm>
            <a:off x="3724200" y="5583240"/>
            <a:ext cx="192096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096" dur="indefinite" restart="never" nodeType="tmRoot">
          <p:childTnLst>
            <p:seq>
              <p:cTn id="10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09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13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у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Юкк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агуаро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хинопси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85800" y="646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7. Самый большой кактус, достигает высоты 24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169" dur="indefinite" restart="never" nodeType="tmRoot">
          <p:childTnLst>
            <p:seq>
              <p:cTn id="117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7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8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6"/>
          <p:cNvSpPr/>
          <p:nvPr/>
        </p:nvSpPr>
        <p:spPr>
          <a:xfrm>
            <a:off x="1835280" y="260280"/>
            <a:ext cx="7089480" cy="6561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11280" y="692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 каждому вопросу дается четыре варианта ответа.  Необходимо выбра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дин верный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 на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Молодец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пись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«Невер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оличество правильных ответов считай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 на полученных лист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ереход к следующему заданию осуществляется по кноп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осле прохождения теста вы уви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й результа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6443640" y="451944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flavius-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1" descr=""/>
          <p:cNvPicPr/>
          <p:nvPr/>
        </p:nvPicPr>
        <p:blipFill>
          <a:blip r:embed="rId4"/>
          <a:stretch/>
        </p:blipFill>
        <p:spPr>
          <a:xfrm>
            <a:off x="189000" y="176040"/>
            <a:ext cx="292572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. Переходная полоса меж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сами и степ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м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ль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таго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BD00028_"/>
          <p:cNvPicPr/>
          <p:nvPr/>
        </p:nvPicPr>
        <p:blipFill>
          <a:blip r:embed="rId6"/>
          <a:stretch/>
        </p:blipFill>
        <p:spPr>
          <a:xfrm>
            <a:off x="25560" y="298440"/>
            <a:ext cx="1565280" cy="145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242" dur="indefinite" restart="never" nodeType="tmRoot">
          <p:childTnLst>
            <p:seq>
              <p:cTn id="124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80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1285920" y="115920"/>
            <a:ext cx="7629480" cy="1636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. На государственном фла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й страны изображен ли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ого к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кс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н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е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Схема 1" descr=""/>
          <p:cNvPicPr/>
          <p:nvPr/>
        </p:nvPicPr>
        <p:blipFill>
          <a:blip r:embed="rId5"/>
          <a:stretch/>
        </p:blipFill>
        <p:spPr>
          <a:xfrm>
            <a:off x="12600" y="695160"/>
            <a:ext cx="1273320" cy="83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1315" dur="indefinite" restart="never" nodeType="tmRoot">
          <p:childTnLst>
            <p:seq>
              <p:cTn id="131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317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371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658800" y="189000"/>
            <a:ext cx="8153280" cy="1811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0. В каком климатическом поя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ращивают коф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ый тростник, бан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876920" y="2903400"/>
            <a:ext cx="42670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уб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мер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рктическ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http://lotoskay.ucoz.ru/_tbkp/Frukti19.gif"/>
          <p:cNvPicPr/>
          <p:nvPr/>
        </p:nvPicPr>
        <p:blipFill>
          <a:blip r:embed="rId6"/>
          <a:stretch/>
        </p:blipFill>
        <p:spPr>
          <a:xfrm>
            <a:off x="4038480" y="541008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388" dur="indefinite" restart="never" nodeType="tmRoot">
          <p:childTnLst>
            <p:seq>
              <p:cTn id="138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39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2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44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6"/>
          <p:cNvSpPr/>
          <p:nvPr/>
        </p:nvSpPr>
        <p:spPr>
          <a:xfrm>
            <a:off x="584280" y="1649520"/>
            <a:ext cx="8229600" cy="5105160"/>
          </a:xfrm>
          <a:prstGeom prst="roundRect">
            <a:avLst>
              <a:gd name="adj" fmla="val 16667"/>
            </a:avLst>
          </a:prstGeom>
          <a:solidFill>
            <a:srgbClr val="b5ae53"/>
          </a:solid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-831960" y="1703520"/>
            <a:ext cx="96458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правильных  отв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20-1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(оценка –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ерных ответов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8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до повторить теор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Arial"/>
              </a:rPr>
              <a:t>(оценка-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Если правильных  ответов 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4-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ребуется серьёзно заняться повторением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ценка –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662440" y="2041560"/>
            <a:ext cx="54144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5479920" y="3757680"/>
            <a:ext cx="685800" cy="927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5591160" y="541188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волшебник"/>
          <p:cNvPicPr/>
          <p:nvPr/>
        </p:nvPicPr>
        <p:blipFill>
          <a:blip r:embed="rId4"/>
          <a:stretch/>
        </p:blipFill>
        <p:spPr>
          <a:xfrm>
            <a:off x="0" y="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257" name="Выноска со стрелкой вниз 3"/>
          <p:cNvSpPr/>
          <p:nvPr/>
        </p:nvSpPr>
        <p:spPr>
          <a:xfrm>
            <a:off x="1576440" y="139680"/>
            <a:ext cx="6840360" cy="1324080"/>
          </a:xfrm>
          <a:prstGeom prst="downArrowCallout">
            <a:avLst>
              <a:gd name="adj1" fmla="val 25020"/>
              <a:gd name="adj2" fmla="val 24993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4" descr=""/>
          <p:cNvPicPr/>
          <p:nvPr/>
        </p:nvPicPr>
        <p:blipFill>
          <a:blip r:embed="rId5"/>
          <a:stretch/>
        </p:blipFill>
        <p:spPr>
          <a:xfrm>
            <a:off x="1390680" y="60480"/>
            <a:ext cx="7203960" cy="105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Прямоугольник 1" descr=""/>
          <p:cNvPicPr/>
          <p:nvPr/>
        </p:nvPicPr>
        <p:blipFill>
          <a:blip r:embed="rId1"/>
          <a:stretch/>
        </p:blipFill>
        <p:spPr>
          <a:xfrm>
            <a:off x="36360" y="158760"/>
            <a:ext cx="9095040" cy="1517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BS00554_"/>
          <p:cNvPicPr/>
          <p:nvPr/>
        </p:nvPicPr>
        <p:blipFill>
          <a:blip r:embed="rId2"/>
          <a:stretch/>
        </p:blipFill>
        <p:spPr>
          <a:xfrm>
            <a:off x="6927840" y="4343400"/>
            <a:ext cx="2216160" cy="21146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3"/>
          <p:cNvSpPr/>
          <p:nvPr/>
        </p:nvSpPr>
        <p:spPr>
          <a:xfrm>
            <a:off x="684360" y="19162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ринская В.А., Душина И.В., Щенев В.А. География материков и океанов. 7 класс, ДРОФА, М.: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икитина Н.А. Универсальные поурочные разработки по географии. 7 класс, Москва «ВАКО»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стникова М.В. География. Тематические кроссворды для уроков и внеклассной работы 6-10 классы, Москва «Издательство НЦ ЭНАС»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2"/>
          <p:cNvSpPr/>
          <p:nvPr/>
        </p:nvSpPr>
        <p:spPr>
          <a:xfrm>
            <a:off x="1731240" y="83520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(использованные в презен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4" descr=""/>
          <p:cNvPicPr/>
          <p:nvPr/>
        </p:nvPicPr>
        <p:blipFill>
          <a:blip r:embed="rId1"/>
          <a:stretch/>
        </p:blipFill>
        <p:spPr>
          <a:xfrm>
            <a:off x="811080" y="66600"/>
            <a:ext cx="8272440" cy="108576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6"/>
          <p:cNvSpPr/>
          <p:nvPr/>
        </p:nvSpPr>
        <p:spPr>
          <a:xfrm>
            <a:off x="108000" y="1454040"/>
            <a:ext cx="8921880" cy="5204520"/>
          </a:xfrm>
          <a:prstGeom prst="rect">
            <a:avLst/>
          </a:prstGeom>
          <a:gradFill rotWithShape="0">
            <a:gsLst>
              <a:gs pos="0">
                <a:srgbClr val="594d52"/>
              </a:gs>
              <a:gs pos="100000">
                <a:srgbClr val="77676d"/>
              </a:gs>
            </a:gsLst>
            <a:lin ang="16200000"/>
          </a:gradFill>
          <a:ln w="9360">
            <a:solidFill>
              <a:srgbClr val="75696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g-fotki.yandex.ru/get/4135/69809074.0/0_ad0bc_f344a57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3"/>
              </a:rPr>
              <a:t>http://img-fotki.yandex.ru/get/4125/69809074.0/0_ad0bd_12818e9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4"/>
              </a:rPr>
              <a:t>http://img-fotki.yandex.ru/get/6445/69809074.0/0_ad0be_10a800ad_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5"/>
              </a:rPr>
              <a:t>http://img-fotki.yandex.ru/get/5632/69809074.0/0_ad0bf_32a6a6f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6"/>
              </a:rPr>
              <a:t>http://img-fotki.yandex.ru/get/4130/69809074.0/0_ad0c0_6989a0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7"/>
              </a:rPr>
              <a:t>http://img-fotki.yandex.ru/get/4138/69809074.0/0_ad0c1_73988af2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8"/>
              </a:rPr>
              <a:t>http://img-fotki.yandex.ru/get/6430/69809074.0/0_ad0c2_cef21049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9"/>
              </a:rPr>
              <a:t>http://img-fotki.yandex.ru/get/4115/69809074.0/0_ad0c3_f4bd91b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0"/>
              </a:rPr>
              <a:t>http://img-fotki.yandex.ru/get/5637/69809074.0/0_ad0c4_c1a4a374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1"/>
              </a:rPr>
              <a:t>http://img-fotki.yandex.ru/get/4135/69809074.0/0_ad0c5_26fa6a1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2"/>
              </a:rPr>
              <a:t>http://img-fotki.yandex.ru/get/6431/69809074.0/0_ad0c6_13090510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3"/>
              </a:rPr>
              <a:t>http://img-fotki.yandex.ru/get/6434/69809074.0/0_ad0c7_37c6892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4"/>
              </a:rPr>
              <a:t>http://img-fotki.yandex.ru/get/5626/69809074.0/0_ad0c8_b1d0dcfc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5"/>
              </a:rPr>
              <a:t>http://img-fotki.yandex.ru/get/5630/69809074.0/0_ad0c9_b7c126b7_X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6"/>
              </a:rPr>
              <a:t>http://img-fotki.yandex.ru/get/5627/69809074.0/0_ad0ca_2a92d7ad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b_d639a0c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5635/69809074.0/0_ad0cc_346b5de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d_5f8176fe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21/69809074.0/0_ad0ce_7be74524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31/69809074.0/0_ad0cf_d20ff29b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d0_9fef7ccc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17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543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3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Самая большая р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539640" y="2924280"/>
            <a:ext cx="3810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ор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4952880" y="47242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48769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ссис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533520" y="47242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ккен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2895480" y="32767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2895480" y="32767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image123"/>
          <p:cNvPicPr/>
          <p:nvPr/>
        </p:nvPicPr>
        <p:blipFill>
          <a:blip r:embed="rId6"/>
          <a:stretch/>
        </p:blipFill>
        <p:spPr>
          <a:xfrm>
            <a:off x="152280" y="5262480"/>
            <a:ext cx="208944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луостров,  прод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ской Россией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лифор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лор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2c9d6992d5104c401eb8a30c0ba2f711"/>
          <p:cNvPicPr/>
          <p:nvPr/>
        </p:nvPicPr>
        <p:blipFill>
          <a:blip r:embed="rId5"/>
          <a:stretch/>
        </p:blipFill>
        <p:spPr>
          <a:xfrm>
            <a:off x="0" y="30492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Древние и очень разруш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ы 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ппал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рдиль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алис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ьерра-Ма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bbede0006c530d485ca772fc67e59d7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5043600"/>
            <a:ext cx="1089000" cy="1814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295280" y="650880"/>
            <a:ext cx="739152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ндура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09480" y="54100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удз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мпе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43000" y="699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Залив, образно называемый «ледяным мешк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24"/>
          <p:cNvPicPr/>
          <p:nvPr/>
        </p:nvPicPr>
        <p:blipFill>
          <a:blip r:embed="rId6"/>
          <a:stretch/>
        </p:blipFill>
        <p:spPr>
          <a:xfrm>
            <a:off x="0" y="685800"/>
            <a:ext cx="1600200" cy="105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533520" y="457200"/>
            <a:ext cx="8153280" cy="16765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нх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к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агар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09480" y="457200"/>
            <a:ext cx="821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.Водопад, расположенный на границе Канады и 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1111"/>
          <p:cNvPicPr/>
          <p:nvPr/>
        </p:nvPicPr>
        <p:blipFill>
          <a:blip r:embed="rId6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. Как называется са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сокая гора Кордиль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ит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конкагу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к – Кин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тче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word2"/>
          <p:cNvPicPr/>
          <p:nvPr/>
        </p:nvPicPr>
        <p:blipFill>
          <a:blip r:embed="rId6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533520" y="425520"/>
            <a:ext cx="8458200" cy="1708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Флор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Калифор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5800" y="4334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7. Какой полуостров является лидером по добыче фосфори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4:59:27Z</dcterms:created>
  <dc:creator>Галина</dc:creator>
  <dc:description/>
  <dc:language>en-US</dc:language>
  <cp:lastModifiedBy>user</cp:lastModifiedBy>
  <dcterms:modified xsi:type="dcterms:W3CDTF">2014-02-13T09:16:20Z</dcterms:modified>
  <cp:revision>45</cp:revision>
  <dc:subject/>
  <dc:title>Слайд 1</dc:title>
</cp:coreProperties>
</file>